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C86-EEBD-4BF3-9465-38CF965C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CF8-AB6D-48EE-BC62-6D450040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CA1-48C9-4A23-AD95-C1A83555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BDC-1F0F-4724-BA71-97B3E022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93B-25EC-431C-BCDE-D6D1691F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50E-9F14-4A2B-AADB-034ECEB6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1AD-7645-4D93-836D-4E5413CE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57E-477D-4004-9BC8-A0182739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70D5-7078-485C-81F6-BA4E4BDF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4C8-B80A-42CC-93FA-AEB8A834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D81-0FF9-48F5-B1E3-278EAA06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7D5-E19B-4E02-B728-C58662B5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DBE0-9D24-4083-A764-045E76C29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4572000" cy="3162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27280" y="1341360"/>
            <a:ext cx="347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8800" y="1916280"/>
            <a:ext cx="8302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Why couldn't the skele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go to the Christmas Party 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18160" y="2852640"/>
            <a:ext cx="714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e had no body to go with 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13080" y="1626120"/>
            <a:ext cx="456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Knock Knock</a:t>
            </a:r>
            <a:br>
              <a:rPr sz="5400"/>
            </a:b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Who's there ?</a:t>
            </a:r>
            <a:br>
              <a:rPr sz="5400"/>
            </a:b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Mary</a:t>
            </a:r>
            <a:br>
              <a:rPr sz="5400"/>
            </a:b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Mary who ?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19640" y="2565360"/>
            <a:ext cx="59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Mary Christmas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08520" y="2467800"/>
            <a:ext cx="7854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hat does Father 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rite on his Christmas cards ?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27600" y="1628640"/>
            <a:ext cx="4998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CDEFGHIJK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PQRSTUVWXYZ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(No-L !!) 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21520" y="2376720"/>
            <a:ext cx="511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hat do snow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at for lunch ?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40720" y="2276640"/>
            <a:ext cx="55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Icebergers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69480" y="2379960"/>
            <a:ext cx="699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ow can Santa's sleig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ossibly fly through the air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73080" y="2975040"/>
            <a:ext cx="653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ou would t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f you go by flying reindee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76360" y="1492200"/>
            <a:ext cx="671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What do you have in Decemb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hat you don't have in any other month ?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87400" y="3040200"/>
            <a:ext cx="1095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ow does Rudolph k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en Christmas is coming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31280" y="292428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e looks at his calen-?deer?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441360"/>
            <a:ext cx="66247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24240" y="333360"/>
            <a:ext cx="47131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720" y="256536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The letter "D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65440" y="2276640"/>
            <a:ext cx="650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What does Father Christm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uffer from if he gets stu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 a chimney ?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31600" y="2997360"/>
            <a:ext cx="53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anta Claustrophobia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39920" y="2376720"/>
            <a:ext cx="6238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um, Can I have a 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or Christmas ?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33880" y="2925720"/>
            <a:ext cx="621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o, you can have tur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ke everyone 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65360" y="2467800"/>
            <a:ext cx="700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hat’s the best thing to pu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to a Christmas cake ?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19240" y="249228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Arial"/>
              </a:rPr>
              <a:t>Your teeth 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1:52:38Z</dcterms:created>
  <dc:creator>MCC</dc:creator>
  <dc:description/>
  <dc:language>en-US</dc:language>
  <cp:lastModifiedBy>MCC</cp:lastModifiedBy>
  <dcterms:modified xsi:type="dcterms:W3CDTF">2010-12-17T12:37:31Z</dcterms:modified>
  <cp:revision>4</cp:revision>
  <dc:subject/>
  <dc:title>Diapositiva 1</dc:title>
</cp:coreProperties>
</file>